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3.wmf" ContentType="image/x-wmf"/>
  <Override PartName="/ppt/media/image26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07280" cy="414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br>
              <a:rPr sz="2800"/>
            </a:b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O5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рганска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хемија 1</a:t>
            </a:r>
            <a:br>
              <a:rPr sz="2400"/>
            </a:br>
            <a:br>
              <a:rPr sz="2400"/>
            </a:br>
            <a:br>
              <a:rPr sz="2800"/>
            </a:b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дехиди и кетони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7859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Оксидација метил-бензе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Рајмер-Тиманова реакција (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Reimer-Tiemannova).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Грађење фенолних алдехид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обијање алдехи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2"/>
          <p:cNvGraphicFramePr/>
          <p:nvPr/>
        </p:nvGraphicFramePr>
        <p:xfrm>
          <a:off x="857160" y="2214720"/>
          <a:ext cx="5715000" cy="260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7160" y="2214720"/>
                    <a:ext cx="571500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Box 5"/>
          <p:cNvSpPr/>
          <p:nvPr/>
        </p:nvSpPr>
        <p:spPr>
          <a:xfrm>
            <a:off x="2143440" y="3357720"/>
            <a:ext cx="618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800" spc="-1" strike="noStrike">
                <a:solidFill>
                  <a:srgbClr val="000000"/>
                </a:solidFill>
                <a:latin typeface="Times New Roman"/>
              </a:rPr>
              <a:t>загревањ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2143800" y="4143240"/>
            <a:ext cx="788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800" spc="-1" strike="noStrike">
                <a:solidFill>
                  <a:srgbClr val="000000"/>
                </a:solidFill>
                <a:latin typeface="Times New Roman"/>
              </a:rPr>
              <a:t>ацетанхидрид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928800" y="5214960"/>
          <a:ext cx="4057560" cy="12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5214960"/>
                    <a:ext cx="405756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50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обијање кет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500120"/>
            <a:ext cx="8229600" cy="531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Оксидација секундарних алкохо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Фридел-Крафтсово ациловање (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Friedel-Craftso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Реакција између киселинских хлорида и органокадмијевих једињењ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Синтеза кетона помоћу ацетосирћетног ест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928800" y="1857240"/>
          <a:ext cx="450036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857240"/>
                    <a:ext cx="450036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5" descr=""/>
          <p:cNvPicPr/>
          <p:nvPr/>
        </p:nvPicPr>
        <p:blipFill>
          <a:blip r:embed="rId3"/>
          <a:stretch/>
        </p:blipFill>
        <p:spPr>
          <a:xfrm>
            <a:off x="714240" y="2928960"/>
            <a:ext cx="5222880" cy="164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Object 3"/>
          <p:cNvGraphicFramePr/>
          <p:nvPr/>
        </p:nvGraphicFramePr>
        <p:xfrm>
          <a:off x="928800" y="4857840"/>
          <a:ext cx="4275000" cy="1270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800" y="4857840"/>
                    <a:ext cx="4275000" cy="12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 карбонилних једиње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857240"/>
            <a:ext cx="822960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нилна група одређује реакције алдехида и кетона, а то с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филна адиција на карбонилну груп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киселости водоникових атома који се налазе на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гљениковом атом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чна реакција за алдехиде и кетоне је реакција 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уклеофилне адициј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дехиди подлежу лакше реакцијама нуклеофилне адиције у односу на кетон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еакције алдехида и кет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4268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ксида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лдехид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ова реакција служи за доказивање алдехид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Толенсов тест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реакција сребрног огледал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CHO  +   2Ag(N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  +   3OH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</a:rPr>
              <a:t>-   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→    2Ag   +    C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COO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 +  4N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+ 2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Метил-кетона (доказна реакција-халоформска реакциј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Object 2"/>
          <p:cNvGraphicFramePr/>
          <p:nvPr/>
        </p:nvGraphicFramePr>
        <p:xfrm>
          <a:off x="1214280" y="2500200"/>
          <a:ext cx="3511800" cy="99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500200"/>
                    <a:ext cx="3511800" cy="9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5"/>
          <p:cNvGraphicFramePr/>
          <p:nvPr/>
        </p:nvGraphicFramePr>
        <p:xfrm>
          <a:off x="1285920" y="5143680"/>
          <a:ext cx="375912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5920" y="5143680"/>
                    <a:ext cx="375912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1285560"/>
            <a:ext cx="822960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едук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Редукција до алкохо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Редукција до угљоводон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леменсенов редукциј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Волф-Кишнерова редукциј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000080" y="2143080"/>
          <a:ext cx="4959360" cy="10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2143080"/>
                    <a:ext cx="495936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4"/>
          <p:cNvGraphicFramePr/>
          <p:nvPr/>
        </p:nvGraphicFramePr>
        <p:xfrm>
          <a:off x="1285920" y="4429080"/>
          <a:ext cx="3506760" cy="113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85920" y="4429080"/>
                    <a:ext cx="350676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214280"/>
            <a:ext cx="8229600" cy="559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диција Грињаровог реаген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У реакцији формалдехида са Гриљаровим реагенсом настају примарни алкохоли, остали алдехиди дају секундарне алкохоле док кетони дају овом реакцијом терцијарне алкохол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диција цијанида.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Овом реакцијом настају цијанхидрини. Ако тако настали молекул хидролизујемо настаће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-хидрокси карбоксилна кисели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Object 2"/>
          <p:cNvGraphicFramePr/>
          <p:nvPr/>
        </p:nvGraphicFramePr>
        <p:xfrm>
          <a:off x="826920" y="1916280"/>
          <a:ext cx="621360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16280"/>
                    <a:ext cx="62136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3"/>
          <p:cNvGraphicFramePr/>
          <p:nvPr/>
        </p:nvGraphicFramePr>
        <p:xfrm>
          <a:off x="900000" y="5445000"/>
          <a:ext cx="6242040" cy="107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5445000"/>
                    <a:ext cx="6242040" cy="10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143000"/>
            <a:ext cx="822960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диција бисулфи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дииција деривата амониј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Хидроксиламина  (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N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-OH)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→  окси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Хидразин 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(N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-N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→   хидраз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Фенилхидразин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(N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-NH-C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→   фенилхидраз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Семикарбазид 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(N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-NHCON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→   семикарбаз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2"/>
          <p:cNvGraphicFramePr/>
          <p:nvPr/>
        </p:nvGraphicFramePr>
        <p:xfrm>
          <a:off x="826920" y="1844640"/>
          <a:ext cx="3303720" cy="86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44640"/>
                    <a:ext cx="330372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3"/>
          <p:cNvGraphicFramePr/>
          <p:nvPr/>
        </p:nvGraphicFramePr>
        <p:xfrm>
          <a:off x="857160" y="3357720"/>
          <a:ext cx="6486480" cy="127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3357720"/>
                    <a:ext cx="6486480" cy="12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285560"/>
            <a:ext cx="822960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диција алкох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928800" y="4143240"/>
          <a:ext cx="3319200" cy="17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4143240"/>
                    <a:ext cx="3319200" cy="17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4"/>
          <p:cNvGraphicFramePr/>
          <p:nvPr/>
        </p:nvGraphicFramePr>
        <p:xfrm>
          <a:off x="857160" y="1857240"/>
          <a:ext cx="3265560" cy="179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1857240"/>
                    <a:ext cx="3265560" cy="17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Box 6"/>
          <p:cNvSpPr/>
          <p:nvPr/>
        </p:nvSpPr>
        <p:spPr>
          <a:xfrm>
            <a:off x="4148280" y="221472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аце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292640" y="3000240"/>
            <a:ext cx="60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8"/>
          <p:cNvSpPr/>
          <p:nvPr/>
        </p:nvSpPr>
        <p:spPr>
          <a:xfrm>
            <a:off x="4219200" y="45007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ке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4361760" y="5286240"/>
            <a:ext cx="53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285560"/>
            <a:ext cx="822960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аницарова реакција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Cannizzaro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лдехиди који у свом молекулу не садрже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-водоникове атоме у присуству концентрованих или алкохолних раствора база подлежу реакцијама аутоксидације и ауторедукције. Овом реакцијом настаје смеша алкохола и соли карбокслине киселин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Халогеновање кет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2"/>
          <p:cNvGraphicFramePr/>
          <p:nvPr/>
        </p:nvGraphicFramePr>
        <p:xfrm>
          <a:off x="900000" y="3213000"/>
          <a:ext cx="4162680" cy="6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213000"/>
                    <a:ext cx="4162680" cy="6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3"/>
          <p:cNvGraphicFramePr/>
          <p:nvPr/>
        </p:nvGraphicFramePr>
        <p:xfrm>
          <a:off x="804960" y="5229360"/>
          <a:ext cx="4773600" cy="92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4960" y="5229360"/>
                    <a:ext cx="477360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Box 5"/>
          <p:cNvSpPr/>
          <p:nvPr/>
        </p:nvSpPr>
        <p:spPr>
          <a:xfrm>
            <a:off x="2859840" y="5157720"/>
            <a:ext cx="706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а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баз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1214280"/>
            <a:ext cx="8229600" cy="559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лдолна кондензац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лдолна кондензација је реакција између два молекула алдехида, два молекула кетона или између алдехида и кето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Услов да дође до реакције је да макар на једном од учесника реакција постоји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-водоников атом. При томе један молекул даје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-водоник, а други даје карбонилну груп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Овом реакцијом готово увек настају </a:t>
            </a:r>
            <a:r>
              <a:rPr b="0" lang="sr-C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-хидрокси-карбонилна једињења. Натали производ алдолне кондензације, </a:t>
            </a:r>
            <a:r>
              <a:rPr b="0" lang="sr-C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-хидрокси-карбонилна једињења, могу подлећи реакцији дехидратације у присуству неке минералне киселине при чему настају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-незасићена карбонилна једињењ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и номенклату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57200" y="17859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шта формула алдехида: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а формула кетона: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OR’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’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гу бити алифатичне или ароматичн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 групе једињења садрже карбонилну групу, &gt;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O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 се често називају једним именом 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нилна једињењ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857240" y="3786120"/>
          <a:ext cx="4046760" cy="15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3786120"/>
                    <a:ext cx="404676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Box 4"/>
          <p:cNvSpPr/>
          <p:nvPr/>
        </p:nvSpPr>
        <p:spPr>
          <a:xfrm>
            <a:off x="1985400" y="5357880"/>
            <a:ext cx="35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лдехид                             ке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214280"/>
            <a:ext cx="8229600" cy="559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-хидрокси-бутана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Механизам алдолне кондензациј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2"/>
          <p:cNvGraphicFramePr/>
          <p:nvPr/>
        </p:nvGraphicFramePr>
        <p:xfrm>
          <a:off x="571680" y="1428840"/>
          <a:ext cx="55576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1428840"/>
                    <a:ext cx="55576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3"/>
          <p:cNvGraphicFramePr/>
          <p:nvPr/>
        </p:nvGraphicFramePr>
        <p:xfrm>
          <a:off x="714240" y="3000240"/>
          <a:ext cx="5954760" cy="338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3000240"/>
                    <a:ext cx="5954760" cy="33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285560"/>
            <a:ext cx="822960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Дехидратација </a:t>
            </a:r>
            <a:r>
              <a:rPr b="0" lang="sr-C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-хидрокси-карбонилних једињењ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2-бутена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ротон-алдехи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Object 2"/>
          <p:cNvGraphicFramePr/>
          <p:nvPr/>
        </p:nvGraphicFramePr>
        <p:xfrm>
          <a:off x="971640" y="2492280"/>
          <a:ext cx="4811760" cy="7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492280"/>
                    <a:ext cx="4811760" cy="7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285560"/>
            <a:ext cx="822960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 сличности у структури алдехиди и кетони показују и сличности код већине својих карактеристи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тим, чињеница да алдехиди имају један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везан за карбонилну групу, док су код кетона за карбонилну групу везана дв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а, има за последицу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лако оксидовање алдехида у односу на кетоне, код којих је оксидација врло отежа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већу реактивност алдехида у односу на кетоне према реакц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sr-B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уклеофилне адиције, која је карактеристична за карбонилна једињењ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356840"/>
            <a:ext cx="8229600" cy="545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карбонилне групе указује на то да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нилни угљеник има три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з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 је карбонилни угљеников атом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</a:t>
            </a:r>
            <a:r>
              <a:rPr b="0" lang="sr-Latn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ибридизован све три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зе леже у једној равни под углом од 12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стала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битала карбонилног угљеника се преклапа са кисеоником и гради 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зу што чини везу између карбонилног угљеника и кисеоника двострук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ва веза између карбонилног угљениковог атома и атома кисеоника је поларна ковалентна веза и представља главни реакциони центар свих карбонилних једињења, одговорна је за већину физичких и хемијских особина карбонилних једињењ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Object 3"/>
          <p:cNvGraphicFramePr/>
          <p:nvPr/>
        </p:nvGraphicFramePr>
        <p:xfrm>
          <a:off x="2286000" y="1714680"/>
          <a:ext cx="1143000" cy="101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714680"/>
                    <a:ext cx="114300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нкату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дехид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вијална имена изводе се из тривијалних имена одговарајућих карбоксилних, тј. киселина са истим бројем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а. Корену латинског имена киселине додаје се реч алдехид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Формалдехид и ацеталдехид – одговарајуће киселине су “мравља” (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um formicum)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ирћетна (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um acetic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равља киселина    формалдехид           сирћетна киселина     ацеталдехи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928800" y="4071960"/>
          <a:ext cx="3502080" cy="13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4071960"/>
                    <a:ext cx="350208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5"/>
          <p:cNvGraphicFramePr/>
          <p:nvPr/>
        </p:nvGraphicFramePr>
        <p:xfrm>
          <a:off x="4834080" y="4071960"/>
          <a:ext cx="3429000" cy="128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34080" y="4071960"/>
                    <a:ext cx="342900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PAC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нклату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дехиди добијају имена тако што се имену угљоводоника са најдужим низом дода наставак –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л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о би се претходно наведена два алдехида звала метанал и етана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 низ се нумерише увек полазећи од карбонилне груп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нал        етанал            пропанал               бензалдехид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4"/>
          <p:cNvGraphicFramePr/>
          <p:nvPr/>
        </p:nvGraphicFramePr>
        <p:xfrm>
          <a:off x="1500120" y="3357720"/>
          <a:ext cx="5105520" cy="149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0120" y="3357720"/>
                    <a:ext cx="5105520" cy="14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менклатура кето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859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PAC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менклатури кетони добијају имена тако што се на име најдужег угљоводоничног низа додаје наставак –</a:t>
            </a: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н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ај карбонилне групе се обележава најмањим могућим броје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тон                бутанон                 фенил-метил-кет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ил-метил-кетон         ацетофен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л-пропил-кетон   метил-изопропил-кетон       бензофен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4"/>
          <p:cNvGraphicFramePr/>
          <p:nvPr/>
        </p:nvGraphicFramePr>
        <p:xfrm>
          <a:off x="1214280" y="3143160"/>
          <a:ext cx="5115240" cy="8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3143160"/>
                    <a:ext cx="511524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5"/>
          <p:cNvGraphicFramePr/>
          <p:nvPr/>
        </p:nvGraphicFramePr>
        <p:xfrm>
          <a:off x="1071720" y="4714920"/>
          <a:ext cx="6696000" cy="8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4714920"/>
                    <a:ext cx="6696000" cy="8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е особи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4268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арност молекула узрокује дипо-дипол интеракције, због чега имају више тачке кључања од неполарних једињења исте молекулске мас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граде интермолекулске водоничне везе, јер је код њих водоник везан само за угљеник. Због тога имају ниже тачке кључања него одговарајући алкохол или карбоксилне киселин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жи алдехиди и кетони су у приличној мери растворни у води, пре свега због водоничних веза са молекулима воде. Граница растворљивости је на око 5 С-атом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дехиди и кетони имају карактеристичан мирис и укус и увелико су одговорни, заједно са испарљивим масним киселинама, за укус и киселост – ужеглост устајале хран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Добијање алдехи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785960"/>
            <a:ext cx="8229600" cy="50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Оксидација примарних алкохо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Редукција киселинских хлори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2"/>
          <p:cNvGraphicFramePr/>
          <p:nvPr/>
        </p:nvGraphicFramePr>
        <p:xfrm>
          <a:off x="1000080" y="2428920"/>
          <a:ext cx="339876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2428920"/>
                    <a:ext cx="33987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3"/>
          <p:cNvGraphicFramePr/>
          <p:nvPr/>
        </p:nvGraphicFramePr>
        <p:xfrm>
          <a:off x="928800" y="4500720"/>
          <a:ext cx="3876480" cy="92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800" y="4500720"/>
                    <a:ext cx="3876480" cy="92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Ana</cp:lastModifiedBy>
  <dcterms:modified xsi:type="dcterms:W3CDTF">2016-01-24T23:15:36Z</dcterms:modified>
  <cp:revision>115</cp:revision>
  <dc:subject/>
  <dc:title>Slide 1</dc:title>
</cp:coreProperties>
</file>